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4C185-E251-4B32-B66E-913CFCE3E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9C3DB241-40BF-44D5-BA4A-42BC8213D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A485E94B-5810-4E15-9FD0-2FDBDB1C3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F766AEDD-9561-4E32-9548-D5302F99D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39D500EF-AA05-4FB6-B731-0636FF92E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E24DB955-C6E5-44A3-907A-F830EB379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BDF37BC5-67FB-41DD-9D17-43E7EB732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64F7F1F8-CE86-43E6-9852-CBDD03C8D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7C2D8CD4-0304-49B9-84E1-511C32A32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C5059564-31A8-494A-8CE4-C9628EA37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F14E2E25-1B4A-4438-A62C-E68751FDE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7D93AF21-CDEE-4F31-BF46-4B0AD36008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F060F40C-618C-4D5E-BE75-BFA7245431E2}"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34677B59-A9CB-4CAC-AF6C-2C1631C2A74A}" type="datetime">
              <a:rPr b="0" lang="it-IT" sz="2300" spc="-1" strike="noStrike">
                <a:solidFill>
                  <a:srgbClr val="ffffff"/>
                </a:solidFill>
                <a:latin typeface="Times New Roman"/>
              </a:rPr>
              <a:t>30/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222B849-D5D0-41DD-A6CB-0B2788141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E975D2C6-3ACB-4D51-9746-9B24ADE87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2CDB428-3CF6-4D8A-ABFF-D9CC5FB39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E8920B6-75BF-446C-A373-B5A84054E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068391CE-242B-40BB-87E4-BDE7CD1856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CFE2AE20-762C-491F-90ED-D617195884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F5F9D244-0D17-4703-A43C-1239F5EDE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33FD8A5-6E7C-43C5-82C5-EC7F7CD42D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E63A0595-C73A-4036-B1FE-7B187D543B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02161A53-B761-49D6-9E4F-E63912E1E942}"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A494379A-54AA-4364-9980-B1B7E9565A64}"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BF7820A-76B7-44E4-B5F6-B3B2DB4B8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215C8F6F-FEE4-4EEF-9342-0C1ECE2F761C}"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507063A-B6B1-44BA-A60A-A8B189C4EA21}"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EE314F9-F243-480A-AA4C-D501A8A82023}"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3BE4F26-D227-4AF0-9C69-1A18FD7DEEDC}"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E0D9000-6E3F-4932-99C9-F0507CC19669}"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60E80FF-5413-479F-994B-92BC32DD4E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F9CDD73-83C9-430B-A2E2-8ABB98335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DE621E1-09A5-4D14-88DF-F5D0556414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86A3BA4-8961-474C-AD6B-C7442D34BC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DF529A7E-4D93-4E07-B242-4681B9F2A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E94D1E72-08D9-498F-A886-0446A516B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7767A1E7-734B-4D12-B489-F0750DB9D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